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E11-1024-444D-9BD0-BF3CEF8A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2E7-6945-43AE-876F-2D16C2D7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F8B23-9D81-4FFD-B258-16A3182C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FC058-DA7C-44D7-A176-C07EC22B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80124-AA97-4B68-AE10-BA30E908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0A3A3-BFA8-40EE-83B5-F359B3BF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2A2D0-8E92-4F05-88F0-F0E7BF3D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BC68C-20FC-4F03-B20E-B8B24EBD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9F05D-41E0-4E71-8E8D-F8BE74F1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3C0B3-225F-45D0-8AF5-0E0BFEA9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F05E3-6E63-4377-9171-C0041A00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04373-5798-4A56-832B-C6205C6A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C62-A66E-4675-A1EA-EF6D52F3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367F8-9674-4AF7-BE0C-7DC6E7C2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795A4-8C4A-4E6B-9930-B960BE4A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18C43-D649-4871-B332-D7C2B77C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6DE30-615E-4FF3-9A6A-014F68A0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65A99-FB9A-486B-A1EA-CE0E9746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4CFDA-F5A1-427E-836F-F5862656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27552-7A58-4962-BEC9-DF9EF71A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89F54-3AFD-4557-967F-2DD084AE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97ACA-4E68-4243-A1B3-8CBC28A6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0750F-4BF6-4966-BE94-0D4C094C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7A2-5602-428F-9F75-E1F69CE8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8435C-B5A5-4ADF-AD45-EC989C97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BC769-C379-47D8-B595-9406E25B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1E457-3F66-4AA6-8D3B-CEAF28AC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6F572-58AB-4E0E-8EB6-182D9770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0DC6C-80DB-4B1D-BC23-8C1D5AA5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C3C9A-384E-4A61-B244-21DA10D8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6F523-CCEF-41D5-BC5A-A6A223E6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5429A-C038-418A-B1E5-EC461495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8E8D7-F609-4F28-815E-097F2488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32112-E550-4258-A249-71A3707B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33FA-6228-4162-AF19-2785AD00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EAA90-CF0A-471A-A10C-2D3FB8CB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1108F-E547-4F42-B42A-F465A0D5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76876-4DFC-4333-BCF5-04FA1B4D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2418B-41DF-4F3E-A398-714792CB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C8FB8-610B-4440-A3B2-9730F583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A8D29-4703-41B0-B489-DCEC6D59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65184-A6F8-43F2-8681-82C8500A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1750A-CF96-45C2-BD92-6433BB7D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1FE20-CB2D-4D30-B638-9C7BE958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5A7A2-1A6D-4EF8-A62C-7E4EBC0A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DF60-BB97-4995-81C0-F1E4926D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7EC9D-B345-4925-AD77-B5FD2F0D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DDE08-C6CC-4110-A06C-0A598FAA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824D7-6C0D-497C-AF61-4198B714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99CBE-962A-43F9-AB34-77AC8A82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36100-E146-40FF-8596-DCCBBFE8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DEFC-0E86-4FFE-9526-5554539D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C6CE-9F50-4BEC-80B0-1711D69A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7F46-6F68-4C29-B268-63B9ABDC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C1A9-3F7E-4513-9F34-D7C47FAC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6EAD-A5D4-48F2-86ED-773FD7EF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FA8-FBF3-4210-A872-3E27F08C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495D-8B6E-4752-B8C6-2CCAF849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D4DB-6158-4BDA-B1D0-78EF0F3C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BA6B-E015-4A91-8125-03C8370E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66C1-8992-416B-9740-E417BCDC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5433-792B-4297-993F-5505AA47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ABAD2-4842-4D24-90C8-C8CCCB36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7FE99-E251-43D6-8FE0-8D23CFAB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38767-1E9F-4438-9330-17164E3F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44517-DCAA-4E7F-9522-08A0BA55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8F0E-9D71-4FA7-B53B-978AE4E2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CF9-D6E1-4E74-A2CF-68826998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1C7FC-0724-402E-88EE-988D3460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9C6B1-7BED-42E7-9A7B-B2B4BEF3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F2B7D-A9C2-49E2-AF75-C16113C6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887E8-3C62-4487-B2E1-66CCA83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9C066-815F-452E-8331-72C0853E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FF7D4-834D-464F-9C27-FE20F7CA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86BA3-F7B5-45A3-8494-82B51661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F0917-69E8-4211-92C8-524A1CD7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89691-58CB-411D-9A50-76F3B900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C5C7D-552B-4CD0-A337-62831093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11B2-0A83-478D-84E9-94A3D1C1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8204D-9EF8-4309-8D3B-56F3C384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F6612-D235-4A6E-A978-CE0DFBE1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C75B9-34FB-4A85-B5A6-16400281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89912-6816-4415-BF04-04E010E5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B6246-CDF7-439B-B364-18091763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F05BD-381F-4DFC-8E65-279232EE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E29BD-316B-4126-9FEE-545F4A8C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E0EF8-3A54-4C52-84FC-56EAD126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01245-C868-4F67-8202-61FF7EC2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731C3-C397-4D9A-ABAA-AD87686A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2CD-C027-4AE8-96D5-78353977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278A7-D8DF-4038-9FC9-5658621F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7F396-9F3B-431B-9697-E003F02F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D2660-FC18-42E4-B4D2-9F2692E8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E4CED-289D-4BF6-92F2-30E1412E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479B3-CDE4-499F-97EE-B3499853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F0FE9-7F18-4563-B806-1B194D46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A1C0D-E99A-443F-8BD0-928979E9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0D9E8-2854-40B0-A585-392B6A9D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53BE4-A70E-4B18-87CB-70A5D81C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F2CAD-B51E-4B5B-95F9-90E0008C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920-8274-4028-83F4-0074A991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D62C9-EC00-40F6-AAEB-D4EF2677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47D4B-A9E6-4762-8A1D-969825D5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02CF1-6C79-4E08-B49E-FA7EFABF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9E583-4B12-45C0-B14C-C2DC00BD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39A8B-B8DB-4677-997B-83D3D9D3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0A953-2E83-42EA-8628-D6EB2B4E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F435C-C95A-463A-ADB3-3507B5A3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7A92C-C32A-44DD-9150-F90B0F66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98ACB-919C-47CA-89B8-CE05FEBA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05D78-E62D-46FF-8ED5-F919D683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6A0-734F-42B8-ACAB-DD376C96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F3BFB-E7B6-4588-A18D-1C484CB6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FB4E8-A1B7-421B-B846-D65AE562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109A9-E3DB-4D2F-BC57-ADFFEC46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8B53F-F492-41B2-B6AA-64501254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342FF-118C-43D0-A3A8-F598B644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CF6FE-BBC0-46DB-A504-F2459D3E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3C73F-7E77-461D-A7AA-43EF6995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67005-1C08-4B53-82E5-4FEDE795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F1814-863D-4A00-B739-3160F557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51F2C-C56D-49CB-92E3-91949847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244-88DD-4228-BBA1-DF5C94C2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A5FF7-2622-492E-A0D3-DB26E81D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04485-06CA-4D84-B118-CDEE1B11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F2769-A6A4-4652-BEF1-27909E30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F3BF3-03F8-44C1-8800-4DEDD33F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5DC52-44CA-46B6-A6F0-3AB827A7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78456-8F59-4EAF-B4DD-6D5B7F4D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F0871-935E-4609-BB15-EE5856BF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3808F-35F2-465A-A2A0-82D9C322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F652B-6A2C-49D3-9D3C-40084332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49596-1073-4CDE-8685-9703CD82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8A7-3A94-49E0-B281-5FE92DCB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C0056-35AD-441B-8D95-9D1401C6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3B0B1-CADA-4465-8992-E2D8D355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A47D1-044E-422F-940E-20DAA251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A0F4C-FAFB-40A9-9E75-CF5DD66A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AA993-5C6D-4326-AD05-1A8439BE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74F63-1C86-4F2F-8968-8490329E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94E4F-CE92-4442-818B-04ED2A1D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E09B6-8F05-4B7A-B4EB-77CF3928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C97BB-4E9A-4A8D-9FBF-44AFE8BF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92B4C-3A4A-4AAE-80CF-BDE00828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D211-4361-41FB-BC0C-219403A2713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2D0B-CEEB-49D1-8CC5-B3A9B70439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B924-2FD0-4261-90AA-5625EC960C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451B-CFEA-4076-8557-4BFF118A99A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9A65-0ABE-4779-B5BF-6D2BEBDE6E0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46FA-3648-46FB-91D5-948F9F626EC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9408-A4F7-4100-80A9-5462450A48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6F62-4A9D-4EB4-B87A-E932B34FF4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0855-7B16-4E99-905B-F630970F7A2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811C-63A5-4807-8051-DD7DC3F8970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01D2-5DEA-494B-A9AE-ED1874CD9E8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A6B3-F854-43BD-991B-D2C70459FD7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95 Ten Pánov 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en Pánov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svätý sobot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rás nadzmeský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as radostn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ám Stvoriteľ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v ňom žehná nás</a:t>
            </a:r>
            <a:br>
              <a:rPr sz="47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a v duši rozlieva sa radosť,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jas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bot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amätný, vzácny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ňom ticho z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en Boží hl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dáva nádej, viery pl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ňom chlebom živ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ýti nás Pán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pokoj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ináša spásy zv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 ktorú patrí Bohu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ten vždy znova zjav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e večnou láskou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 mil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 brán rajských kr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ceste k več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Boží je dňom r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prídeš v sláv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an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k 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ád znova za všetk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chválu ti vzd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24:17Z</dcterms:modified>
  <cp:revision>23</cp:revision>
  <dc:subject/>
  <dc:title>Je veľký náš Pán, on slávy je Kráľ Nech do všetkých strán  spev vrúcnych znie chvál.</dc:title>
</cp:coreProperties>
</file>